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658B-F1CF-40DB-84D1-ACC539AA4E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715-1C02-4849-AF07-CB9848B8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163-8846-474E-ADBC-2AF5CCF9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8C7-75F3-42E7-A34C-9E23BD49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85E-1FDF-49C2-8874-0CAA220D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6E5-46F2-47A9-8F74-C362065B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EFD-A8A4-4923-8914-5D4863F6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7AD-028B-46EA-AB37-0CEB4B90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327-967E-44BA-A57E-D49EA3EA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65F-FECF-40C2-9759-E8ADB85D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89B-CF12-4DE8-8B68-1044D76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BFA-E573-4229-9CCE-4A02B50F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D04-D504-4199-A224-A63F1CC4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50000">
              <a:srgbClr val="99ccff"/>
            </a:gs>
            <a:gs pos="100000">
              <a:srgbClr val="47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D7C6-7035-454B-A6EC-8CEC51AF5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onners Ferry Slide, 19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609480" y="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oking from the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05740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5"/>
          <p:cNvPicPr/>
          <p:nvPr/>
        </p:nvPicPr>
        <p:blipFill>
          <a:blip r:embed="rId1"/>
          <a:stretch/>
        </p:blipFill>
        <p:spPr>
          <a:xfrm>
            <a:off x="-76212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66688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17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352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ls and hanging tie from rail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IC21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6094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7:41:19Z</dcterms:created>
  <dc:creator>Greg Cossette</dc:creator>
  <dc:description/>
  <dc:language>en-US</dc:language>
  <cp:lastModifiedBy>RomaK</cp:lastModifiedBy>
  <dcterms:modified xsi:type="dcterms:W3CDTF">2015-09-04T09:40:48Z</dcterms:modified>
  <cp:revision>11</cp:revision>
  <dc:subject/>
  <dc:title>Bonners Ferry Slide, 1998</dc:title>
</cp:coreProperties>
</file>